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B5A2E-3A88-46BA-B55B-F4BC5387A7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E8321-145A-4E1D-8E63-5D85158F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1D6AA-1D5C-44F7-953B-EAEB622D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2F1E5-982D-4686-B4FD-ED434F9107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AAA45-0759-4335-9FCD-D064060C3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92D3-77A3-4EDA-AC76-CA677CE5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07C50-7B63-4B83-A706-914311C8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31429-54CD-415D-817E-926E6695D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0"/>
            <a:ext cx="883944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16628-41A4-48CE-B142-BB31DF50A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7A22E-E4D6-4EB3-911F-380DAD79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68F90-644A-4732-988B-308E62F1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4E9616-496D-4A75-AB24-20F02DCE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EE0AB-7B26-4AD7-93DC-87D31F66950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809880" y="655272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42B7-500F-4F2D-BC46-980761EB8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379440" y="5181480"/>
            <a:ext cx="7545240" cy="147024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" name=""/>
          <p:cNvGraphicFramePr/>
          <p:nvPr/>
        </p:nvGraphicFramePr>
        <p:xfrm>
          <a:off x="304920" y="1219320"/>
          <a:ext cx="8457840" cy="3921120"/>
        </p:xfrm>
        <a:graphic>
          <a:graphicData uri="http://schemas.openxmlformats.org/drawingml/2006/table">
            <a:tbl>
              <a:tblPr/>
              <a:tblGrid>
                <a:gridCol w="948240"/>
                <a:gridCol w="930600"/>
                <a:gridCol w="940320"/>
                <a:gridCol w="896040"/>
                <a:gridCol w="1027440"/>
                <a:gridCol w="896040"/>
                <a:gridCol w="940320"/>
                <a:gridCol w="938520"/>
                <a:gridCol w="940320"/>
              </a:tblGrid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379440" y="5460840"/>
            <a:ext cx="41911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記述ルール（アクティビティの記述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ビジネスプロセス（意志決定処理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プロセス／処理間の依存関係　（細線）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プロセス／処理の同期処理　　（太線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87600" y="5692680"/>
            <a:ext cx="6858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65440" y="604836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5440" y="618804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65640" y="5340240"/>
            <a:ext cx="36590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判断処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プロセス／処理との関連付け　（点線）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　プロセスの開始　●　　　　　プロセスの終了  ◎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18400" y="59086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484960" y="5477040"/>
            <a:ext cx="838080" cy="30456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04920" y="504720"/>
          <a:ext cx="8458200" cy="698760"/>
        </p:xfrm>
        <a:graphic>
          <a:graphicData uri="http://schemas.openxmlformats.org/drawingml/2006/table">
            <a:tbl>
              <a:tblPr/>
              <a:tblGrid>
                <a:gridCol w="2011320"/>
                <a:gridCol w="1112760"/>
                <a:gridCol w="2597040"/>
                <a:gridCol w="995400"/>
                <a:gridCol w="828720"/>
                <a:gridCol w="9129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業務流れ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システム名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成者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作成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改廃月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サブ）システム名称</a:t>
                      </a:r>
                      <a:br>
                        <a:rPr sz="1000"/>
                      </a:b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ビジネスプロセス名称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3751200" y="6643800"/>
            <a:ext cx="524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出典：『エンドユーザによるビジネスシステム定義の進め方』　平成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月　社団法人日本情報システム・ユーザー協会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4T05:53:00Z</dcterms:created>
  <dc:creator/>
  <dc:description/>
  <dc:language>en-US</dc:language>
  <cp:lastModifiedBy>yo-koba</cp:lastModifiedBy>
  <dcterms:modified xsi:type="dcterms:W3CDTF">2006-09-27T11:01:18Z</dcterms:modified>
  <cp:revision>1</cp:revision>
  <dc:subject/>
  <dc:title>スライド 1</dc:title>
</cp:coreProperties>
</file>